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F7F2-7A14-4CFB-8E4D-DBD583C63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028520" y="579240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6901-B277-4012-8806-E08FCBE4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2852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48840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3DBC-5749-49A5-8944-753E00D4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651760" y="457164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274640" y="457164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028520" y="579240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2651760" y="579240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4274640" y="579240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CCF1-6158-43F6-87DC-F8F41E9B9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2907B-EC5F-4BAC-AF27-A01C23D0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28520" y="457164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08136-DC16-432D-961B-DF0618DB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2BFD2-7598-42A6-920A-34F33E7C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5CFB4-A936-428D-97DC-242CF4F5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69383-F71D-4260-8AFB-3C948784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42720" y="1930320"/>
            <a:ext cx="6172200" cy="10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AF1AE-FC47-4CBF-932B-A75E74C5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2852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BD6EF-F3CA-4E6D-9900-FC9FC7FD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028520" y="457164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CCB5-2675-4F1F-AC1D-46283512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48840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F3116-119C-4F6D-9FDC-F8829B7B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28520" y="579240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A58B4-6844-4796-BFBF-091DFC9C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028520" y="579240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097CD-4EFC-41D7-996B-EC276C5D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02852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48840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04B4C-0334-4133-BF57-6FA33C7FC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651760" y="457164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274640" y="457164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028520" y="579240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2651760" y="579240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4274640" y="579240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7E01F-8B9F-43E2-B73F-2909ABBF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62A3-06DB-440E-A304-9E1F6C55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CEF2-7CD3-413F-AB46-A6537E12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43D1-E3A8-4754-BFC8-3750D29D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342720" y="1930320"/>
            <a:ext cx="6172200" cy="10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22D4-6C41-45B5-AA5A-9A356BC5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2852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FF9A-4F8F-4D49-A889-453D3293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48840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D671-843C-4BF8-B7D2-5482D2EA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79240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7B95-E52D-46FF-BA2C-205E0CF6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6858000" cy="9143640"/>
            <a:chOff x="0" y="0"/>
            <a:chExt cx="6858000" cy="9143640"/>
          </a:xfrm>
        </p:grpSpPr>
        <p:sp>
          <p:nvSpPr>
            <p:cNvPr id="1" name=""/>
            <p:cNvSpPr/>
            <p:nvPr/>
          </p:nvSpPr>
          <p:spPr>
            <a:xfrm>
              <a:off x="0" y="6502320"/>
              <a:ext cx="6858000" cy="2641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6858000" cy="6502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4686480" y="8350200"/>
            <a:ext cx="2171520" cy="8128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8026560"/>
            <a:ext cx="5886360" cy="1142280"/>
            <a:chOff x="0" y="8026560"/>
            <a:chExt cx="5886360" cy="1142280"/>
          </a:xfrm>
        </p:grpSpPr>
        <p:sp>
          <p:nvSpPr>
            <p:cNvPr id="5" name=""/>
            <p:cNvSpPr/>
            <p:nvPr/>
          </p:nvSpPr>
          <p:spPr>
            <a:xfrm>
              <a:off x="1771560" y="8026560"/>
              <a:ext cx="3857400" cy="113400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2959920" y="8026560"/>
              <a:ext cx="2926440" cy="1142280"/>
              <a:chOff x="2959920" y="8026560"/>
              <a:chExt cx="2926440" cy="1142280"/>
            </a:xfrm>
          </p:grpSpPr>
          <p:sp>
            <p:nvSpPr>
              <p:cNvPr id="7" name=""/>
              <p:cNvSpPr/>
              <p:nvPr/>
            </p:nvSpPr>
            <p:spPr>
              <a:xfrm>
                <a:off x="4700520" y="8041320"/>
                <a:ext cx="1185840" cy="112752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187080" y="8026560"/>
                <a:ext cx="221400" cy="83556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607200" y="8240040"/>
                <a:ext cx="450000" cy="57312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319280" y="8182800"/>
                <a:ext cx="184680" cy="15624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59920" y="8168040"/>
                <a:ext cx="49680" cy="17100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8026560"/>
              <a:ext cx="4733640" cy="113220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469800" y="8028000"/>
            <a:ext cx="4263840" cy="1133280"/>
            <a:chOff x="469800" y="8028000"/>
            <a:chExt cx="4263840" cy="1133280"/>
          </a:xfrm>
        </p:grpSpPr>
        <p:sp>
          <p:nvSpPr>
            <p:cNvPr id="14" name=""/>
            <p:cNvSpPr/>
            <p:nvPr/>
          </p:nvSpPr>
          <p:spPr>
            <a:xfrm>
              <a:off x="1423440" y="8028000"/>
              <a:ext cx="434520" cy="61632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13000" y="8104320"/>
              <a:ext cx="2420640" cy="10569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78360" y="8091360"/>
              <a:ext cx="84240" cy="1292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17360" y="8131680"/>
              <a:ext cx="191520" cy="34740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39880" y="8157240"/>
              <a:ext cx="70200" cy="1292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69800" y="8065800"/>
              <a:ext cx="291600" cy="4384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0BEB-BFDF-4CAD-ADB5-D18BC3D455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4680" y="27000"/>
            <a:ext cx="6858000" cy="9143640"/>
            <a:chOff x="-4680" y="27000"/>
            <a:chExt cx="6858000" cy="9143640"/>
          </a:xfrm>
        </p:grpSpPr>
        <p:sp>
          <p:nvSpPr>
            <p:cNvPr id="62" name=""/>
            <p:cNvSpPr/>
            <p:nvPr/>
          </p:nvSpPr>
          <p:spPr>
            <a:xfrm>
              <a:off x="-4680" y="6529320"/>
              <a:ext cx="6858000" cy="2641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4680" y="27000"/>
              <a:ext cx="6858000" cy="6502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681440" y="8358120"/>
            <a:ext cx="2171880" cy="8128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8045280"/>
            <a:ext cx="5884200" cy="1134720"/>
            <a:chOff x="-1440" y="8045280"/>
            <a:chExt cx="5884200" cy="1134720"/>
          </a:xfrm>
        </p:grpSpPr>
        <p:sp>
          <p:nvSpPr>
            <p:cNvPr id="66" name=""/>
            <p:cNvSpPr/>
            <p:nvPr/>
          </p:nvSpPr>
          <p:spPr>
            <a:xfrm>
              <a:off x="1770120" y="8045280"/>
              <a:ext cx="3857760" cy="113472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958840" y="8045280"/>
              <a:ext cx="2923920" cy="1134360"/>
              <a:chOff x="2958840" y="8045280"/>
              <a:chExt cx="2923920" cy="1134360"/>
            </a:xfrm>
          </p:grpSpPr>
          <p:sp>
            <p:nvSpPr>
              <p:cNvPr id="68" name=""/>
              <p:cNvSpPr/>
              <p:nvPr/>
            </p:nvSpPr>
            <p:spPr>
              <a:xfrm>
                <a:off x="4699440" y="8060040"/>
                <a:ext cx="1183320" cy="111960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186000" y="8045280"/>
                <a:ext cx="221400" cy="83628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606120" y="8258760"/>
                <a:ext cx="450000" cy="57348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318200" y="8201520"/>
                <a:ext cx="184680" cy="15624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958840" y="8186760"/>
                <a:ext cx="49680" cy="17136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8045280"/>
              <a:ext cx="4734000" cy="113292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69800" y="8028000"/>
            <a:ext cx="4263840" cy="1133280"/>
            <a:chOff x="469800" y="8028000"/>
            <a:chExt cx="4263840" cy="1133280"/>
          </a:xfrm>
        </p:grpSpPr>
        <p:sp>
          <p:nvSpPr>
            <p:cNvPr id="75" name=""/>
            <p:cNvSpPr/>
            <p:nvPr/>
          </p:nvSpPr>
          <p:spPr>
            <a:xfrm>
              <a:off x="1423440" y="8028000"/>
              <a:ext cx="434520" cy="61632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13000" y="8104320"/>
              <a:ext cx="2420640" cy="10569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78360" y="8091360"/>
              <a:ext cx="84240" cy="1292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17360" y="8131680"/>
              <a:ext cx="191520" cy="34740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9880" y="8157240"/>
              <a:ext cx="70200" cy="1292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9800" y="8065800"/>
              <a:ext cx="291600" cy="4384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4426-D010-4345-AAF5-7ED979312A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07920" y="21960"/>
            <a:ext cx="5545440" cy="83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fffff"/>
                </a:solidFill>
                <a:uFillTx/>
                <a:latin typeface="Comic Sans MS"/>
              </a:rPr>
              <a:t>LE MEURTRE DE LA FALA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ffff"/>
                </a:solidFill>
                <a:uFillTx/>
                <a:latin typeface="Comic Sans MS"/>
              </a:rPr>
              <a:t>Synop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Samedi 3 Juin 2006 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Cet après-midi avait lieu l’enregistrement de l’émission  TV « Une soirée pour l’Entre-Aide », en faveur des handicapés physiqu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Un vrai carton !! Tous les records d’audimats vont être battu grâce à l’animateur vedette </a:t>
            </a: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Michel Delerme, 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et à la présence sur le plateau, de nombreux artistes dont le célèbre chanteur </a:t>
            </a: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Dany Gaccho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 et de sa femme </a:t>
            </a: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Marie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, qui  est en fauteuil roula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Un grand cocktail est organisé à 18h, chez Dany et Marie, dans leur villa qui longe la cô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Alors que la fête bat son plein, Marie disparaît pendant quelques heur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Il commence à faire froid et il y a un vent terribl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Vers 20h, Michel Delerme part à sa recherche… il revient épouvanté… il vient de retrouver le corps de Marie sans vie… son fauteuil a été poussé de la falais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A vous de jouer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Bonne mur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8T16:53:36Z</dcterms:created>
  <dc:creator>Mulder</dc:creator>
  <dc:description/>
  <dc:language>en-US</dc:language>
  <cp:lastModifiedBy>Mulder</cp:lastModifiedBy>
  <dcterms:modified xsi:type="dcterms:W3CDTF">2006-05-20T08:09:47Z</dcterms:modified>
  <cp:revision>3</cp:revision>
  <dc:subject/>
  <dc:title>Diapositive 1</dc:title>
</cp:coreProperties>
</file>