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7A5-EE53-4BCB-B583-E86911BD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C92-0395-465B-BDC8-4B26F730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D54-6568-4FE1-A68C-37E839C9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B5E-ABFB-4FD3-8B76-716D1714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2B2CF-D114-4A33-89BB-9AE8DCD2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ED6A5-5D09-4F7B-AE42-E74FB71E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82FF5-AC18-422B-A1F6-7BD00201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B7C60-C278-43F4-9429-1A428D5B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DC83F-C547-401E-8610-95C451E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75246-79F1-4E15-837C-73017F1D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A8AAE-E92B-46F1-8E96-47DF92E8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8A5-D909-4C89-A89E-8218ABBD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52F3A-1FDC-4567-9FD9-8655E6B7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D6A78-07EC-4745-9838-E6CA842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25DCA-FF6F-4547-B411-7C0406E9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D5AE5-1877-4041-81C1-CE91EC12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F916B-858C-46E7-93CB-B0C25301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42B-176A-451B-907E-24C46AB8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99D-4EF2-4DAB-8676-4F612D3C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688-76D5-4E21-AFB5-101DD439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B49-A02A-474E-9013-F8315F01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7EF-FF3B-437C-9AB6-439CC186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7A2-223C-4D51-AEEF-76CF4841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0D4-57F3-4494-B3C1-48068A92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0FF8-2D88-433F-92F5-8C7D73A6CD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FABB-5A48-4CEC-B317-4F90C99CD7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7920" y="21960"/>
            <a:ext cx="5545440" cy="83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Comic Sans MS"/>
              </a:rPr>
              <a:t>LE MEURTRE DE LA FALA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omic Sans MS"/>
              </a:rPr>
              <a:t>Synop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Samedi 3 Juin 2006 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Cet après-midi avait lieu l’enregistrement de l’émission  TV « Une soirée pour l’Entre-Aide », en faveur des handicapés physiqu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vrai carton !! Tous les records d’audimats vont être battu grâce à l’animateur vedett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ichel Delerme,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et à la présence sur le plateau, de nombreux artistes dont le célèbre chanteur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Dany Gaccho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 et de sa femm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ari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, qui  est en fauteuil roula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grand cocktail est organisé à 18h, chez Dany et Marie, dans leur villa qui longe la cô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lors que la fête bat son plein, Marie disparaît pendant quelques heu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Il commence à faire froid et il y a un vent terrib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ers 20h, Michel Delerme part à sa recherche… il revient épouvanté… il vient de retrouver le corps de Marie sans vie… son fauteuil a été poussé de la falai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 vous de jouer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Bonne mu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6:53:36Z</dcterms:created>
  <dc:creator>Mulder</dc:creator>
  <dc:description/>
  <dc:language>en-US</dc:language>
  <cp:lastModifiedBy>Mulder</cp:lastModifiedBy>
  <dcterms:modified xsi:type="dcterms:W3CDTF">2006-05-20T08:09:47Z</dcterms:modified>
  <cp:revision>3</cp:revision>
  <dc:subject/>
  <dc:title>Diapositive 1</dc:title>
</cp:coreProperties>
</file>